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87D-AB07-4357-A801-9AF1567F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233-0BED-4CD1-B8BD-CD8B117F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29B-E891-4758-B784-9038EEF0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AEA-A0ED-4DC9-A116-D2A80607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E87-2503-4202-895D-BDDE9937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174E-59DC-4A5B-AE93-9F3822C4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50D-5E1D-4F34-AFFA-22EC3FAE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B82-A960-4D84-9338-C08317DA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DAA-4C8E-4A90-BCA6-84951D33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433-809B-4AE0-B542-90FB5CE3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FA2A-3E30-4BDE-ADAC-07DDD9F9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89F-EEFA-4023-9495-1CF89815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90B9-99E1-41B3-A852-2FC1A67B9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66880" y="1905120"/>
            <a:ext cx="373392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P 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71800" y="1365120"/>
            <a:ext cx="320040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053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33600" y="228600"/>
            <a:ext cx="607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29080" y="1676520"/>
            <a:ext cx="2305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3:34:50Z</dcterms:created>
  <dc:creator>Patrick J. Mooney</dc:creator>
  <dc:description/>
  <dc:language>en-US</dc:language>
  <cp:lastModifiedBy>Patrick J. Mooney</cp:lastModifiedBy>
  <dcterms:modified xsi:type="dcterms:W3CDTF">2010-11-02T13:40:19Z</dcterms:modified>
  <cp:revision>2</cp:revision>
  <dc:subject/>
  <dc:title>Slide 1</dc:title>
</cp:coreProperties>
</file>